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993-6C75-4509-B1BD-FB0CF4CAB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DEB-F44A-47B2-9D0B-A106A0BA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25D-E453-40B9-9AC4-6C231FF0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CED-46A6-40A8-B967-D3BCED90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F1BF-1476-43BD-92AF-6B57A31CD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F9D-49C0-4EBA-9B16-F27A8FC9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E63E-8162-47E4-B78C-715DF273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C451-CFC9-467B-B69F-3F16E456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C418-198C-4202-96B1-A7F0B044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7859-6EEF-44C5-8EFC-FC19E0F8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C06-538D-4F2D-B1EB-1B419248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EDB-B28E-4826-9C48-5BCE4853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7D17-F8CD-404C-9C87-1BDAA2B7FA4F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enguaje Logo y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ogramación de polígo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5300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fe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duardo Paredes Bar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sería la formula para un polígono regular de n lad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3851280" y="2276640"/>
            <a:ext cx="1657440" cy="1584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3995640" y="4869000"/>
            <a:ext cx="1440000" cy="1439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971640" y="5013360"/>
            <a:ext cx="1439640" cy="1150920"/>
          </a:xfrm>
          <a:prstGeom prst="hexagon">
            <a:avLst>
              <a:gd name="adj" fmla="val 31272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7020000" y="2133720"/>
            <a:ext cx="1511280" cy="1439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826920" y="2205000"/>
            <a:ext cx="1584360" cy="1440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9"/>
          <p:cNvSpPr txBox="1"/>
          <p:nvPr/>
        </p:nvSpPr>
        <p:spPr>
          <a:xfrm>
            <a:off x="6300720" y="5013360"/>
            <a:ext cx="2303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n lado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Conoc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ONLAP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Ángulos Suplement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Dos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ángulos suplementarios</a:t>
            </a: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 son aquellos cuya suma de medidas es 180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1547640" y="2781360"/>
            <a:ext cx="5689800" cy="26733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62728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12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72436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484360" y="5877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Arial"/>
              </a:rPr>
              <a:t> = 180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ómo calcular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56" name="AutoShape 7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rc 9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rc 14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rc 15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/>
            <a:ahLst/>
            <a:rect l="l" t="t" r="r" b="b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rc 16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/>
            <a:ahLst/>
            <a:rect l="l" t="t" r="r" b="b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5003640" y="2276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8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rc 19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/>
            <a:ahLst/>
            <a:rect l="l" t="t" r="r" b="b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6659640" y="50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2700360" y="5516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rc 24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/>
            <a:ahLst/>
            <a:rect l="l" t="t" r="r" b="b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395280" y="2060640"/>
            <a:ext cx="252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1, A2 y A3, los ángulos suplementarios (a los ángulos interiores del triangulo) o ángulos de giro de la tort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para el Triáng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10644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4140360" y="2708280"/>
            <a:ext cx="39909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Qué primitiv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se rep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Cuantas vec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Line 38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3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ómo calcular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5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4716360" y="249228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1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59636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2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8"/>
          <p:cNvSpPr/>
          <p:nvPr/>
        </p:nvSpPr>
        <p:spPr>
          <a:xfrm>
            <a:off x="6084720" y="609300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3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395280" y="2060640"/>
            <a:ext cx="25210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1, B2, B3 y B4, los ángulos suplementarios (a los ángulos interiores del cuadrado) o ángulos de giro de la tortu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rc 23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rc 27"/>
          <p:cNvSpPr/>
          <p:nvPr/>
        </p:nvSpPr>
        <p:spPr>
          <a:xfrm>
            <a:off x="4356000" y="5589720"/>
            <a:ext cx="21600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rc 28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rc 30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1"/>
          <p:cNvSpPr/>
          <p:nvPr/>
        </p:nvSpPr>
        <p:spPr>
          <a:xfrm>
            <a:off x="3203640" y="501336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B4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rc 32"/>
          <p:cNvSpPr/>
          <p:nvPr/>
        </p:nvSpPr>
        <p:spPr>
          <a:xfrm>
            <a:off x="4356000" y="2708280"/>
            <a:ext cx="503280" cy="4334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rc 35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rc 37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rc 40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2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3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4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imitivas para el Cuad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33116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v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d 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4140360" y="2708280"/>
            <a:ext cx="39909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Qué primitiv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se repite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Arial Black"/>
              </a:rPr>
              <a:t>¿Cuantas veces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está sucediendo?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es la raz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1600200"/>
          <a:ext cx="8229600" cy="3700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0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de giro del Triangu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1 + A2 + A3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de giro del Cuadra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1 + B2 + B3 + B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AutoShape 19"/>
          <p:cNvSpPr/>
          <p:nvPr/>
        </p:nvSpPr>
        <p:spPr>
          <a:xfrm rot="16200000">
            <a:off x="2268360" y="2347560"/>
            <a:ext cx="503280" cy="28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20"/>
          <p:cNvSpPr/>
          <p:nvPr/>
        </p:nvSpPr>
        <p:spPr>
          <a:xfrm rot="16200000">
            <a:off x="6372000" y="2131560"/>
            <a:ext cx="503280" cy="3240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84240 h 3240360"/>
              <a:gd name="textAreaBottom" fmla="*/ 315612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1692360" y="4149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940360" y="4149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1476360" y="5445000"/>
            <a:ext cx="655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valor obtenemos en estas sum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06:29:38Z</dcterms:created>
  <dc:creator>WinuE</dc:creator>
  <dc:description/>
  <dc:language>en-US</dc:language>
  <cp:lastModifiedBy>eddy portatil</cp:lastModifiedBy>
  <dcterms:modified xsi:type="dcterms:W3CDTF">2001-02-19T07:47:40Z</dcterms:modified>
  <cp:revision>10</cp:revision>
  <dc:subject/>
  <dc:title>Lenguaje Logo y Programación de polígonos</dc:title>
</cp:coreProperties>
</file>